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click.wav" ContentType="audio/x-wav"/>
  <Override PartName="/ppt/media/hammer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F2E-E952-4819-9256-42324DEA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11A-96B6-4D45-B6C8-FB241D72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0DB-22E7-4DCA-B454-30CE229A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E52-879E-43E2-BD0F-015A579E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C52F-9CE6-4F55-8805-E29A6BF4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869A-A3A7-4075-B378-B3D28D66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A5F8-4D70-4618-8E90-E075935D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A139-A24A-4A9E-84F3-1C5DD0CF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1B98-6B31-4426-9A7B-C2DF7184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654F-A1B6-4D87-8AED-88D1F6AC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CBFA-A7CE-46E1-B2B1-FE222C23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E13-D1A5-4008-8B80-15E1F351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C384-3250-428A-B478-1DE4FB6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A73E-CEAC-48F0-96BA-76CE60D3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1DA8-762A-4B04-ADC6-2056D1A4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6D83-DB6D-40CD-AF9D-E26A487B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4FB3-2B95-43C9-B187-8E627269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017-7294-4C89-A3A2-E59E6BCE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331-1DC0-49CD-81B1-A23643B5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F83-FF33-4B31-9DA1-524B8607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42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849-2C2A-4030-B1C4-D5D4EB9D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4D2-4807-41DE-9CC2-16A666F6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DCA-722C-4503-808F-B410D54D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F21-C2D4-476C-875F-2F7C98F4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39640" y="1125360"/>
            <a:ext cx="8305920" cy="182520"/>
            <a:chOff x="539640" y="112536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7016760" y="112536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9640" y="120168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7976-F4D3-4A57-B315-9C01A0C1C75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AD6F-32A8-4BEE-9DA9-6EEC1E8C4BD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09080" y="64911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reated by </a:t>
            </a:r>
            <a:r>
              <a:rPr b="1" i="1" lang="zh-CN" sz="1800" spc="-1" strike="noStrike">
                <a:solidFill>
                  <a:srgbClr val="0000ff"/>
                </a:solidFill>
                <a:latin typeface="Arial"/>
              </a:rPr>
              <a:t>Dreamskie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E-mail: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dreamskier@sin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152280"/>
            <a:ext cx="9144000" cy="83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1.  The following could be an advertisement except________.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ail                               B.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 sign outside a shop    D. products free of charge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2.  In this text,  the writer does not tell us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 advertisements can be used in tour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 balloons can be used to adv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 advertising may make a product che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 advertisement in Europe is more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n that in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5680" y="2209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562720"/>
            <a:ext cx="57168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609480"/>
            <a:ext cx="8458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3.Why can good advertisements reduce the price of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Repeated advertising increases product sales and therefore increases product sales and therefore increases product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he more products are made, the less the cost 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dvertising costs little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Both A and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4419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tep 3.languag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685800"/>
            <a:ext cx="8915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The development of radio,television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cinema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agazines and newspapers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s gone hand in hand with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development of advertising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无线电、电视、电影、杂志和报纸的发展同广告业的发展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齐头并进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666880"/>
            <a:ext cx="883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hand in hand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密切相关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相当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together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其中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o 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相配，随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而来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hand in hand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为副词短语，表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手牵着手，密切联系，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道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之意，后面常加介词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with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再加名词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401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Money doesn’t always go hand in hand with happiness</a:t>
            </a:r>
            <a:r>
              <a:rPr b="1" lang="zh-CN" sz="2800" spc="-1" strike="noStrike">
                <a:solidFill>
                  <a:srgbClr val="330033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6064200"/>
            <a:ext cx="76197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金钱并不总是同幸福密切相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60948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norance and poverty often go hand in hand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．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447920"/>
            <a:ext cx="7467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愚昧和贫穷总是紧密地联结在一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no tapes to go with the book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276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没有这本书配套的磁带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42670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nd in hand with readi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developing the habit of making note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5627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在阅读的同时，他养成了做笔记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6440" y="317520"/>
            <a:ext cx="9112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hand 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han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y ha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143000"/>
            <a:ext cx="938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hand in hand ---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手牵手，携手，共同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981080"/>
            <a:ext cx="9294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hand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在手里／手边，进行中，掌握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625840"/>
            <a:ext cx="92948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t hand ---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手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常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ose , near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连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280" y="3276720"/>
            <a:ext cx="9385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y hand ---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用手工做，由专人递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857760"/>
            <a:ext cx="9296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always keep a dictionary _____________  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r sweater is knitted 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walked ______________ in the garde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olice had the riot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暴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809880"/>
            <a:ext cx="22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/a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434340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51055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nd 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71500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12193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say=used to sa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ten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woul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ake a seat at the back before the lecture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be a hospital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过去持续的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ill not have the money to spend on books as h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sed to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前经常（现在不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oke+ing+ly=jok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smilingly; surprisingly; understandingl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e explained the whole story and her boss nodd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understand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解释了事情的全部经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的上司理解地点着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musician smiled </a:t>
            </a:r>
            <a:r>
              <a:rPr b="1" i="1" lang="zh-CN" sz="2800" spc="-1" strike="noStrike">
                <a:solidFill>
                  <a:srgbClr val="0066ff"/>
                </a:solidFill>
                <a:latin typeface="Arial"/>
              </a:rPr>
              <a:t>approv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while the little girl was playing the p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女孩弹奏钢琴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音乐家赞许地微笑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Word formation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Surpris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the weather report on the evening before the storm said there would be strong winds, but not a hurric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524"/>
              </a:spcAft>
              <a:buClr>
                <a:srgbClr val="b2b2b2"/>
              </a:buClr>
              <a:buSzPct val="90000"/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 replied </a:t>
            </a:r>
            <a:r>
              <a:rPr b="0" i="1" lang="zh-CN" sz="2800" spc="-1" strike="noStrike">
                <a:solidFill>
                  <a:srgbClr val="0066ff"/>
                </a:solidFill>
                <a:latin typeface="Arial"/>
              </a:rPr>
              <a:t>laughingl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“Aren’t you making the same mistakes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大笑着回答说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是也犯同样的错误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think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up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设想、构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re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7696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nk out -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仔细思考并研究出（计划等），或者想透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work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497400"/>
            <a:ext cx="769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048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ough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wo ways to solve the problem of dealing with the waste in front of our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724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pent a whole week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inking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contrac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486400"/>
            <a:ext cx="9144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soner tried to think up a plan for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nk up, think out, think ov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1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指想出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虚构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 consider carefully and make a plan for(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仔细思考并制定计划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30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也有仔细思考之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但只着重思考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涉及结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hink up, 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着重于结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e have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arefully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over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your proposal of yesterda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Who can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ink ou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the solution to the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Delighted, the girls </a:t>
            </a:r>
            <a:r>
              <a:rPr b="0" lang="zh-CN" sz="3000" spc="-1" strike="noStrike">
                <a:solidFill>
                  <a:srgbClr val="ff3300"/>
                </a:solidFill>
                <a:latin typeface="Arial"/>
              </a:rPr>
              <a:t>thought u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many good id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087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09680" y="38088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vertis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16640"/>
            <a:ext cx="2808360" cy="863640"/>
          </a:xfrm>
          <a:prstGeom prst="wedgeEllipseCallout">
            <a:avLst>
              <a:gd name="adj1" fmla="val 9523"/>
              <a:gd name="adj2" fmla="val -73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141720"/>
            <a:ext cx="2808360" cy="863640"/>
          </a:xfrm>
          <a:prstGeom prst="wedgeEllipseCallout">
            <a:avLst>
              <a:gd name="adj1" fmla="val 38805"/>
              <a:gd name="adj2" fmla="val -7977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49360"/>
            <a:ext cx="3203640" cy="863640"/>
          </a:xfrm>
          <a:prstGeom prst="wedgeEllipseCallout">
            <a:avLst>
              <a:gd name="adj1" fmla="val 37560"/>
              <a:gd name="adj2" fmla="val 16084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4768920"/>
            <a:ext cx="5724360" cy="1324080"/>
          </a:xfrm>
          <a:prstGeom prst="wedgeEllipseCallout">
            <a:avLst>
              <a:gd name="adj1" fmla="val -19328"/>
              <a:gd name="adj2" fmla="val -1788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 of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2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. try out     try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ut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考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提炼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指试验 试用某种机器、理论、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ry on---v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穿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试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97180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dea sounds fine ,but we need to try it out in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2670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 medicine is being tried out on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like the shoes, why not try them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867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trying out new teaching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685800"/>
            <a:ext cx="914400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n't it time you made someone's life a bit easi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’s (high) time sb did sth /should do 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虚拟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某人作某事的时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s it time you got things read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gave it up.=It's time you should give it up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放弃的时候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592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's time you told him the truth.=It's time you should told him the tru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告诉他事实的时候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483048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icture may be seen in an ad in the form of TV, cinema, magazine, newspapers, large boards (billboards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553080" cy="4011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Step 1 Note making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ow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y using radio, TV, cinema, magazine, newspapers, large boards, signs, balloons, messages pulled behind planes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at can you advert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roducts, services, political leaders in the western countrie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0066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sults of adverti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increases product sal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Aft>
                <a:spcPts val="1687"/>
              </a:spcAft>
              <a:buClr>
                <a:srgbClr val="990033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t reduces pri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23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People’s job in an advertising firm: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0033"/>
                </a:solidFill>
                <a:latin typeface="Arial"/>
              </a:rPr>
              <a:t>How are ads ma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 company goes to an advertising fi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(People’s jobs) in an advertising fi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is in charge of the program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thinks up an id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buys space o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writes the tex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51"/>
              </a:spcBef>
              <a:spcAft>
                <a:spcPts val="1312"/>
              </a:spcAft>
              <a:buClr>
                <a:srgbClr val="b2b2b2"/>
              </a:buClr>
              <a:buSzPct val="9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One person </a:t>
            </a:r>
            <a:r>
              <a:rPr b="0" i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designs the advertis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480" y="152280"/>
            <a:ext cx="905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ep 2. Reading compreh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uthor thinks that advertisements ________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re welcome by everybody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will increase the cost of products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have bad influence on people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can win more customers for a company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Paragraph 1, which word does the writer use to express his idea that advertising is common?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Develope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Popular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Proved.              D. Increase.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According to the text, advertisements may be used in ________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election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scientific research         D. educatio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580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57640" y="3505320"/>
            <a:ext cx="43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3581280"/>
            <a:ext cx="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486400"/>
            <a:ext cx="4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372600" cy="74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ow many means of advertising are mentioned in the tex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7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9       C   1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1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ich paragraph talks about the purpose of advertising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aragraph 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Paragraph 2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aragraph 3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Paragraphs 4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hen an advertising company makes advertisements, which happens firs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Having a meeting.  B. Collecting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Writing a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Designing the advertis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97360" y="99072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66688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8720" y="4876920"/>
            <a:ext cx="6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839080" cy="76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at does “interview” mean in the last paragrap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See.   B. Select.    C. Visit.    D. Ask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can we infer from Paragraph 2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Only a few things can be advertised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t is difficult to use printed things for advertisemen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itical advertisements can only be seen in USA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dvertisements are everywhere for so many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1295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55627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1066680"/>
            <a:ext cx="769608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How many steps are there in making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7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When the advertisement is ready, it is shown only to a part of the country as a (an)______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review                      B.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performanc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057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72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5:55:07Z</dcterms:created>
  <dc:creator>幻想的天空</dc:creator>
  <dc:description/>
  <dc:language>en-US</dc:language>
  <cp:lastModifiedBy>w</cp:lastModifiedBy>
  <dcterms:modified xsi:type="dcterms:W3CDTF">2004-08-23T15:43:35Z</dcterms:modified>
  <cp:revision>144</cp:revision>
  <dc:subject/>
  <dc:title>幻灯片 1</dc:title>
</cp:coreProperties>
</file>